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954-9634-44B1-9110-AF880A36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8A5-5F23-47C3-983D-B92B65F2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F7F-36BD-4AF3-AE83-481F5AEB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49C-18F3-466A-88B0-9BE0A2C9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349-18A6-4D66-8DA0-4286B164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139-EC72-45BB-BD18-65BA5748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ACF-6182-4203-924F-F6EFADAA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BE3-DBD8-46C4-9FBA-B72DD655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008-3357-4997-A700-0004CCE7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668-472F-4575-9171-4940BA9D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596-F4A6-48AD-A396-9789A303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A5B-DFF8-4C67-A789-893A3B98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954C7-D0B0-414D-B7B0-BF4C99622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ocer.mp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weets.mp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ke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irdresser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verend%20John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xer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utcher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njurer.mp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octor.mp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irefighters.mp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amuel Pepy's Diary from Pudding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sten and complete the informations on each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9280"/>
            <a:ext cx="918072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360360"/>
            <a:ext cx="899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720" y="179280"/>
            <a:ext cx="845964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60360"/>
            <a:ext cx="88203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9640" y="360360"/>
            <a:ext cx="792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9280"/>
            <a:ext cx="972036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720" y="179280"/>
            <a:ext cx="845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360" y="179280"/>
            <a:ext cx="9539280" cy="71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9280"/>
            <a:ext cx="6840360" cy="70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12:11:22Z</dcterms:created>
  <dc:creator>dominique  camier</dc:creator>
  <dc:description/>
  <dc:language>en-US</dc:language>
  <cp:lastModifiedBy>dominique  camier</cp:lastModifiedBy>
  <dcterms:modified xsi:type="dcterms:W3CDTF">2014-03-02T12:21:49Z</dcterms:modified>
  <cp:revision>10</cp:revision>
  <dc:subject/>
  <dc:title/>
</cp:coreProperties>
</file>